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B75-0A6B-43F3-BE56-12F340B6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323-CB6B-460A-B656-4485F3E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21B-7F6A-4052-9E40-46157DD7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D2F-6DA8-4D71-9B5F-E8501EF0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458-EFCA-4647-B5FC-5B2FCE8F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C98-F9B6-4B1D-BDE3-47471CC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458-1157-44A2-9F77-30FEA8C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DB4-689A-410B-9CC0-C67073D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A61-17D2-4371-9419-2C504B40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435-CBD2-4AE3-9FB9-E59305A4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58C-9A79-4055-9A8E-AE86424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20F-88C2-41F1-A3A4-D508255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8CA7-097A-4C14-9907-1E882A7E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23-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plain the meaning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boles (exaggera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arly died laug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hopping m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ried a thousand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feet were as big as a b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lect one hyperbole from the list and create an illustration (pic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learn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nderstand hyperbole.  Also, review the concepts of stanza, rhyme scheme, internal and end rhyme, and 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you learning th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how to group the parts of a poem, so it will be easier to read and compreh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 a separate sheet of paper, write one sentence combining all the details of each group of sentences.  You will be creating adjectives, adverbs, and prepositional phras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lboat drifted.  It was graceful.  It drifted in the breeze.  The breeze was gen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or performed the role.  She was gifted.  The role was the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 put her bike away.  She put it in the shed.  The shed wa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d looked through the mail.  He was eager.  The mail was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took a walk.  She walked through the forest.  The trees were tall pines.  It was late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fting the Lesson (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yperb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 a figure of speech.  An exaggeration or overstatement used for emph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.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 nearly died laug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y dad had a cow when he saw 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 said that a million tim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077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fting the lesson (w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each item below.  If the item contains hyperbole, writ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blank.  If the item does not have hyperbole, writ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ousin loves to read.  She eats up a good book in no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et has the longest hair of anyone I know.  She can almost sit on the ends of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was so hungry he inhaled his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gie was so embarrassed she had to leave the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basketball team is really good this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 hit the baseball so hard that the crack of the bat could be heard in the next cou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in poured like Niagara Falls for two straight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feet are so big that he has to order his shoes from a special cata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tha is the greatest basketball player in the world.  She can win a game with her eyes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able at the picnic site will probably not be big enough for all of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fting the Lesson (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248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ith a partner complete the Hyperbole/Exaggeration lesson 56a in the Heath Middle Level 8 workboo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05400" y="3657600"/>
            <a:ext cx="230508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fting the Lesson (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“Sarah Cynthia Sylvia Stout Would Not Take the Garbage Out” by Shel Silvers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ine the end r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rhym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all examples of hyperbole in the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Critical Viewing question at the bottom of page 5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yperb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hyperb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03:16Z</dcterms:created>
  <dc:creator>Melissa Ferguson</dc:creator>
  <dc:description/>
  <dc:language>en-US</dc:language>
  <cp:lastModifiedBy>HP Authorized Customer</cp:lastModifiedBy>
  <dcterms:modified xsi:type="dcterms:W3CDTF">2006-07-18T06:02:06Z</dcterms:modified>
  <cp:revision>5</cp:revision>
  <dc:subject/>
  <dc:title>Journal 3-23-06 Thursday</dc:title>
</cp:coreProperties>
</file>